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529-2272-4B1C-8109-47EE9D42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6A8-602A-44B7-BA95-9A35C9D3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905-E972-419F-9A2F-752E04AD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AA5-132B-4074-AAF6-DA9334B3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414-4817-43F9-ABE3-49C64F03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ED2-E0A4-4BF3-87EB-23A72D9A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EC3-1C4F-466F-829D-4D16AAD4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87C-C203-4B18-8EBB-3AC400B4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FBF-A925-4BB0-B150-585EC8C5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E66-7595-4F3E-B594-FD5E945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9ED-3879-4488-9997-A755D3B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833-0993-472A-A196-1887191A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0900-A0E2-4E76-9BEC-38E08164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amw.org.au/items/002/mabo_01.jpg&amp;imgrefurl=http://www.amw.org.au/items/002/002_nom.htm&amp;h=618&amp;w=450&amp;sz=45&amp;hl=en&amp;start=3&amp;um=1&amp;tbnid=Hn_9y4z3R4ApwM:&amp;tbnh=136&amp;tbnw=99&amp;prev=/images%3Fq%3Dmabo%2Bcase%26um%3D1%26hl%3Den%26safe%3Dstrict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By Olena and Dani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197000"/>
            <a:ext cx="460836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BO  CA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3429000"/>
            <a:ext cx="2044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bo was born on Murray Island in between Papua New Gui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fighting for Murray island which are located in the torres str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00360" y="549360"/>
            <a:ext cx="2867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URRAY IS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bo was named Eddie Koiki Sambo but he changed his name to Mabo because his mother’s brother adopt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95640" y="260280"/>
            <a:ext cx="388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bO's rEaL N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bo was a landmark court case against Queensland vs. Ma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involved aboriginal land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79640" y="40464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qUeENsLAnD Vs Ma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 case happened in Queensland in Jun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9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11280" y="476280"/>
            <a:ext cx="37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rT Ca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8 British colonisation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id that the land was free to take and didn’t belong to an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rra nulli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95640" y="333360"/>
            <a:ext cx="36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RRA NULLI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 said that there were people living in Australia before the British ca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 established native tit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79640" y="404640"/>
            <a:ext cx="4249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N THE COURT 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back empty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back parks that the government 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59280" y="333360"/>
            <a:ext cx="216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ESUL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15:04Z</dcterms:created>
  <dc:creator>Reservoir District Secondary College</dc:creator>
  <dc:description/>
  <dc:language>en-US</dc:language>
  <cp:lastModifiedBy>Reservoir District Secondary College</cp:lastModifiedBy>
  <dcterms:modified xsi:type="dcterms:W3CDTF">2008-06-05T02:41:52Z</dcterms:modified>
  <cp:revision>8</cp:revision>
  <dc:subject/>
  <dc:title>Slide 1</dc:title>
</cp:coreProperties>
</file>